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17.wmf" ContentType="image/x-wmf"/>
  <Override PartName="/ppt/media/image6.wmf" ContentType="image/x-wmf"/>
  <Override PartName="/ppt/media/image36.wmf" ContentType="image/x-wmf"/>
  <Override PartName="/ppt/media/image30.png" ContentType="image/png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35.wmf" ContentType="image/x-wmf"/>
  <Override PartName="/ppt/media/image37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lhelm Rojewski                         Nałęczów 28-29.05.20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3FA0-0F8A-472E-B8CA-15AD279AE56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lhelm Rojewski                         Nałęczów 28-29.05.200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4DA7-6AA2-4CB0-8FD0-330898A8E89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lhelm Rojewski                         Nałęczów 28-29.05.200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713F-C62A-4477-B792-29CB8F39206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2" descr="pasek3"/>
          <p:cNvPicPr/>
          <p:nvPr/>
        </p:nvPicPr>
        <p:blipFill>
          <a:blip r:embed="rId2"/>
          <a:stretch/>
        </p:blipFill>
        <p:spPr>
          <a:xfrm>
            <a:off x="0" y="1622520"/>
            <a:ext cx="1655640" cy="52354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logo pwr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logo pwr"/>
          <p:cNvPicPr/>
          <p:nvPr/>
        </p:nvPicPr>
        <p:blipFill>
          <a:blip r:embed="rId2"/>
          <a:stretch/>
        </p:blipFill>
        <p:spPr>
          <a:xfrm>
            <a:off x="0" y="-17640"/>
            <a:ext cx="2340000" cy="498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ugeniusz.rosolowski@pwr.edu.p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017440" y="5518080"/>
            <a:ext cx="6769080" cy="12240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Eugeniusz Rosoł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Katedra Energoelektry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e-mail: </a:t>
            </a:r>
            <a:r>
              <a:rPr b="0" lang="pl-PL" sz="1800" spc="-1" strike="noStrike" u="sng">
                <a:solidFill>
                  <a:srgbClr val="ffd9af"/>
                </a:solidFill>
                <a:uFillTx/>
                <a:latin typeface="Trebuchet MS"/>
                <a:hlinkClick r:id="rId1"/>
              </a:rPr>
              <a:t>eugeniusz.rosolowski@pwr.edu.pl</a:t>
            </a: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pok. 420, D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692360" y="2997360"/>
            <a:ext cx="7451640" cy="162072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ffebd5"/>
                </a:solidFill>
                <a:uFillTx/>
                <a:latin typeface="Arial"/>
              </a:rPr>
              <a:t>Modele łączników elektroniczny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898640" y="1881360"/>
            <a:ext cx="6769080" cy="50292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Modelowanie z użyciem programu ATP-EM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909E-B9F1-44E8-9396-6CE61B3369EE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000" y="1674360"/>
            <a:ext cx="86756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ełączenie bez GIFU - napię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o zainicjowaniu przełączenia  następują kilkuetapowe przełączenia z pojawiającymi się impulsami napięciowymi o dużej amplitudzie, co jest związane ze zmianą prądu płynącego przez indukcyjn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iekt 5"/>
          <p:cNvGraphicFramePr/>
          <p:nvPr/>
        </p:nvGraphicFramePr>
        <p:xfrm>
          <a:off x="611280" y="3897360"/>
          <a:ext cx="83786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i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897360"/>
                    <a:ext cx="8378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7E5B-8961-4E52-B65B-7DF905963CB3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orównan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iekt 5"/>
          <p:cNvGraphicFramePr/>
          <p:nvPr/>
        </p:nvGraphicFramePr>
        <p:xfrm>
          <a:off x="628560" y="4425840"/>
          <a:ext cx="7078680" cy="23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i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4425840"/>
                    <a:ext cx="707868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iekt 6"/>
          <p:cNvGraphicFramePr/>
          <p:nvPr/>
        </p:nvGraphicFramePr>
        <p:xfrm>
          <a:off x="611280" y="1979640"/>
          <a:ext cx="709596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iek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979640"/>
                    <a:ext cx="709596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ole tekstowe 7"/>
          <p:cNvSpPr/>
          <p:nvPr/>
        </p:nvSpPr>
        <p:spPr>
          <a:xfrm>
            <a:off x="7812000" y="274464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IFU =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13"/>
          <p:cNvSpPr/>
          <p:nvPr/>
        </p:nvSpPr>
        <p:spPr>
          <a:xfrm>
            <a:off x="7885080" y="526572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IFU =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6500-EAC6-4F20-958E-0F6A5592AD34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2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ymbol zastępczy zawartości 3"/>
          <p:cNvSpPr/>
          <p:nvPr/>
        </p:nvSpPr>
        <p:spPr>
          <a:xfrm>
            <a:off x="684360" y="5084640"/>
            <a:ext cx="845964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ąd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pozostaje ciągły, więc po wyłączeniu zaczyna przewodzić dioda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IODEU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 GIFU = 0 przełączenie odbywa się w dwóch krokach. Przy GIFU = 1 nie występują przepię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ymbol zastępczy zawartości 3"/>
          <p:cNvSpPr/>
          <p:nvPr/>
        </p:nvSpPr>
        <p:spPr>
          <a:xfrm>
            <a:off x="468360" y="2843280"/>
            <a:ext cx="26272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SIG1 = SIG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a wyłączniki są wyłączane jednocześni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iekt 6"/>
          <p:cNvGraphicFramePr/>
          <p:nvPr/>
        </p:nvGraphicFramePr>
        <p:xfrm>
          <a:off x="2825640" y="1917720"/>
          <a:ext cx="626904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iek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5640" y="1917720"/>
                    <a:ext cx="626904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1B4B-CDBD-4310-BEFF-145019B602D1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2, GIFU = 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iekt 4"/>
          <p:cNvGraphicFramePr/>
          <p:nvPr/>
        </p:nvGraphicFramePr>
        <p:xfrm>
          <a:off x="719280" y="2217600"/>
          <a:ext cx="680220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i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2217600"/>
                    <a:ext cx="680220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iekt 10"/>
          <p:cNvGraphicFramePr/>
          <p:nvPr/>
        </p:nvGraphicFramePr>
        <p:xfrm>
          <a:off x="719280" y="4438800"/>
          <a:ext cx="680220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iek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4438800"/>
                    <a:ext cx="68022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ole tekstowe 16"/>
          <p:cNvSpPr/>
          <p:nvPr/>
        </p:nvSpPr>
        <p:spPr>
          <a:xfrm>
            <a:off x="7812000" y="30178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ąd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17"/>
          <p:cNvSpPr/>
          <p:nvPr/>
        </p:nvSpPr>
        <p:spPr>
          <a:xfrm>
            <a:off x="7885080" y="526572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apięc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E4F9-0FF8-4C20-9906-CDE42F6A9BD4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2, GIFU =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ole tekstowe 16"/>
          <p:cNvSpPr/>
          <p:nvPr/>
        </p:nvSpPr>
        <p:spPr>
          <a:xfrm>
            <a:off x="7812000" y="30178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ąd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17"/>
          <p:cNvSpPr/>
          <p:nvPr/>
        </p:nvSpPr>
        <p:spPr>
          <a:xfrm>
            <a:off x="7885080" y="526572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apięc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iekt 9"/>
          <p:cNvGraphicFramePr/>
          <p:nvPr/>
        </p:nvGraphicFramePr>
        <p:xfrm>
          <a:off x="611280" y="2212920"/>
          <a:ext cx="692604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iek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12920"/>
                    <a:ext cx="692604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iekt 12"/>
          <p:cNvGraphicFramePr/>
          <p:nvPr/>
        </p:nvGraphicFramePr>
        <p:xfrm>
          <a:off x="635040" y="4473720"/>
          <a:ext cx="692460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Obiek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473720"/>
                    <a:ext cx="69246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0A52-DD3A-4BDE-8A7F-5C5BCAA39690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3: przekształtnik AC-AC, sterowany dwa układy PWM (M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iekt 10"/>
          <p:cNvGraphicFramePr/>
          <p:nvPr/>
        </p:nvGraphicFramePr>
        <p:xfrm>
          <a:off x="684360" y="3178080"/>
          <a:ext cx="829944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iek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178080"/>
                    <a:ext cx="829944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E77D-A068-4632-BAC5-3241BC207E51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3: struktura układu przełączające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iekt 6"/>
          <p:cNvGraphicFramePr/>
          <p:nvPr/>
        </p:nvGraphicFramePr>
        <p:xfrm>
          <a:off x="547560" y="2217600"/>
          <a:ext cx="4019760" cy="46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iek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2217600"/>
                    <a:ext cx="401976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Symbol zastępczy zawartości 3"/>
          <p:cNvSpPr/>
          <p:nvPr/>
        </p:nvSpPr>
        <p:spPr>
          <a:xfrm>
            <a:off x="5580000" y="3429000"/>
            <a:ext cx="262908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ostownik i falownik mają jednakową strukturę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97CD-C145-496F-AE42-F32D6ED85DED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Impulsy sterujące falownikiem – górne połów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871640" y="2543040"/>
            <a:ext cx="5988240" cy="4199040"/>
          </a:xfrm>
          <a:prstGeom prst="rect">
            <a:avLst/>
          </a:prstGeom>
          <a:ln w="0">
            <a:noFill/>
          </a:ln>
        </p:spPr>
      </p:pic>
      <p:sp>
        <p:nvSpPr>
          <p:cNvPr id="305" name="pole tekstowe 15"/>
          <p:cNvSpPr/>
          <p:nvPr/>
        </p:nvSpPr>
        <p:spPr>
          <a:xfrm>
            <a:off x="7812000" y="30178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aza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ole tekstowe 16"/>
          <p:cNvSpPr/>
          <p:nvPr/>
        </p:nvSpPr>
        <p:spPr>
          <a:xfrm>
            <a:off x="7885080" y="543096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aza 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ole tekstowe 17"/>
          <p:cNvSpPr/>
          <p:nvPr/>
        </p:nvSpPr>
        <p:spPr>
          <a:xfrm>
            <a:off x="7885080" y="417024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aza 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6AF0-E805-44EC-8AF1-6D3FD89FB29D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Impulsy sterujące falownikiem – górne/dolne, faz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ole tekstowe 15"/>
          <p:cNvSpPr/>
          <p:nvPr/>
        </p:nvSpPr>
        <p:spPr>
          <a:xfrm>
            <a:off x="7261200" y="3452760"/>
            <a:ext cx="15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zęść dol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ole tekstowe 16"/>
          <p:cNvSpPr/>
          <p:nvPr/>
        </p:nvSpPr>
        <p:spPr>
          <a:xfrm>
            <a:off x="7278840" y="497664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zęść gó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254320" y="3017880"/>
            <a:ext cx="46339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A268-AA76-488A-8F67-226D8B63659C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ądy w diodach, faz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ole tekstowe 15"/>
          <p:cNvSpPr/>
          <p:nvPr/>
        </p:nvSpPr>
        <p:spPr>
          <a:xfrm>
            <a:off x="2268360" y="584352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IFU =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ole tekstowe 16"/>
          <p:cNvSpPr/>
          <p:nvPr/>
        </p:nvSpPr>
        <p:spPr>
          <a:xfrm>
            <a:off x="6408720" y="584352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IFU =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iekt 9"/>
          <p:cNvGraphicFramePr/>
          <p:nvPr/>
        </p:nvGraphicFramePr>
        <p:xfrm>
          <a:off x="801720" y="2911320"/>
          <a:ext cx="8192880" cy="28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iek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911320"/>
                    <a:ext cx="81928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95280" y="541440"/>
            <a:ext cx="8566200" cy="63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9C1E-E899-438E-89B3-52AED575F2F1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ądy w obciążeniu falownika, GIFU =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 = 35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iekt 11"/>
          <p:cNvGraphicFramePr/>
          <p:nvPr/>
        </p:nvGraphicFramePr>
        <p:xfrm>
          <a:off x="611280" y="2960640"/>
          <a:ext cx="841680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iek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60640"/>
                    <a:ext cx="841680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C017-AF7E-439D-819F-8DD4C399FD9A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000" y="1709280"/>
            <a:ext cx="86756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apięcia na obciążeniu przekształtnika,  GIFU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584360" y="2313000"/>
            <a:ext cx="6613560" cy="43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C357-37FC-45DB-AA57-9999B17E522E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000" y="1709280"/>
            <a:ext cx="86756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Napięcie zasilania przekształtnika, GIFU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773360" y="2457360"/>
            <a:ext cx="643572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BBCA-5025-4975-8086-CE23FBA93E5C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000" y="1709280"/>
            <a:ext cx="86756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ądy na wejściu przekształtnika, GIFU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628640" y="2341440"/>
            <a:ext cx="643572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CBF7-0FB9-4268-92A8-3A2CED7FEB12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Rodzaje łączników elektronicznych dostępnych w edytorze ATPDraw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CCCF-69B4-41ED-8B6B-ABC4844DE2FC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Dioda (łącznik Type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1314360" cy="781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576360" y="3157560"/>
            <a:ext cx="430992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Symbol zastępczy zawartości 3"/>
          <p:cNvSpPr/>
          <p:nvPr/>
        </p:nvSpPr>
        <p:spPr>
          <a:xfrm>
            <a:off x="5029200" y="3157560"/>
            <a:ext cx="41148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Vi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napięcie zapalania,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hol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minimalny prąd przewodzenia, 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deio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czas dejonizacji, 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stan początkowy (&gt;0 – zamknięty w stanie początkowy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Rodzaje łączników elektronicznych dostępnych w edytorze ATPDraw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54AE-751B-4B02-A087-E28F66BFD2A8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Tyrystor (łącznik Type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zawartości 3"/>
          <p:cNvSpPr/>
          <p:nvPr/>
        </p:nvSpPr>
        <p:spPr>
          <a:xfrm>
            <a:off x="5029200" y="3157560"/>
            <a:ext cx="41148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Vi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napięcie zapalania,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hol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minimalny prąd przewodzenia, 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deio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czas dejonizacji, 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stan początkowy (&gt;0 – zamknięty w stanie początkowym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IF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&gt;0 – załączony algorytm Gif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032360" y="2349360"/>
            <a:ext cx="1260360" cy="87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576360" y="3105000"/>
            <a:ext cx="4390920" cy="36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Rodzaje łączników elektronicznych dostępnych w edytorze ATPDraw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7E43-5A00-469C-AA01-1573FCC456AA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Triak (łącznik Type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ymbol zastępczy zawartości 3"/>
          <p:cNvSpPr/>
          <p:nvPr/>
        </p:nvSpPr>
        <p:spPr>
          <a:xfrm>
            <a:off x="5029200" y="3157560"/>
            <a:ext cx="41148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Vi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napięcie zapalania,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hol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minimalny prąd przewodzenia, 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deio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czas dejonizacji, 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stan początkowy (&gt;0 – zamknięty w stanie początkowy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887640" y="2327400"/>
            <a:ext cx="855720" cy="830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604800" y="3152880"/>
            <a:ext cx="440532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Rodzaje łączników elektronicznych dostępnych w edytorze ATPDraw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4CE1-52EB-42D4-BCFD-CAF1A7AD1C85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Łącznik sterowany (łącznik Type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ymbol zastępczy zawartości 3"/>
          <p:cNvSpPr/>
          <p:nvPr/>
        </p:nvSpPr>
        <p:spPr>
          <a:xfrm>
            <a:off x="5029200" y="3157560"/>
            <a:ext cx="41148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Vi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napięcie zapalania,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stan początkowy (&gt;0 – zamknięty w stanie początkowym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IF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&gt;0 – załączony algorytm Gif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826920" cy="66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4362480" cy="36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971640" y="81000"/>
          <a:ext cx="7596000" cy="6740640"/>
        </p:xfrm>
        <a:graphic>
          <a:graphicData uri="http://schemas.openxmlformats.org/drawingml/2006/table">
            <a:tbl>
              <a:tblPr/>
              <a:tblGrid>
                <a:gridCol w="1190520"/>
                <a:gridCol w="1189080"/>
                <a:gridCol w="2608200"/>
                <a:gridCol w="2608200"/>
              </a:tblGrid>
              <a:tr h="3999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dzaj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zwa/symbo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r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wag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</a:tr>
              <a:tr h="801720"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-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old [A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eion [s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czyna przewodzić przy u &gt; Vig; wyłącza się gdy i &lt; Ihold; zaczyna ponownie przewodzić, gdy u &gt; Vig przez czas Tdeion. CLOSED &gt; 0 – zamknięta w początkowym stanie ustalonym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81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rysto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old [A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eion [s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Łącznik sterowany sygnałem TACS lub MODELS. Parametry, jak w diodzie; ponadto: GIFU &gt;0 – uruchomiony zostaje algorytm GIFU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</a:tr>
              <a:tr h="81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deal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old [A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eion [s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ry, jak w diodzie; ponadto: Rf – szeregowo włączona rezystancja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4906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-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old [A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k sterowany sygnałami S (spark) oraz C (clamp). Parametry, jak w diodzie (bez Tdeion)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</a:tr>
              <a:tr h="8175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-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Łącznik sterowany z TACS (MODEL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Łącznik bezwzględnie sterowany sygnałem TACS lub MODELS; CLOSED &gt; 0 – zamknięta w początkowym stanie ustalonym; GIFU &gt;0 – uruchomiony zostaje algorytm GIFU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961920"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-9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wo segment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rnik nieliniowy z dwu-segmentową charakterystyką. Parametry, jak w diodzie; ponadto: Rf – szeregowo włączona rezystancja dla dodatniego kierunku przewodzenia, Rb – dla kierunku przeciwnego (u &lt; Vig)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hockley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[A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ax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rnik nieliniowy z liczbą segmentów NP+2 o charakterystyce: i=Is*(exp(u/Vig)-1)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oint list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rnik nieliniowy określony przez max. 23 punkty. Rf, Rb – szeregowo włączone rezystancje, jak w two segments.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Obiekt 3"/>
          <p:cNvGraphicFramePr/>
          <p:nvPr/>
        </p:nvGraphicFramePr>
        <p:xfrm>
          <a:off x="4444920" y="657360"/>
          <a:ext cx="693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iek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657360"/>
                    <a:ext cx="693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iekt 12"/>
          <p:cNvGraphicFramePr/>
          <p:nvPr/>
        </p:nvGraphicFramePr>
        <p:xfrm>
          <a:off x="4437000" y="1413000"/>
          <a:ext cx="717480" cy="46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iek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7000" y="1413000"/>
                    <a:ext cx="71748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iekt 13"/>
          <p:cNvGraphicFramePr/>
          <p:nvPr/>
        </p:nvGraphicFramePr>
        <p:xfrm>
          <a:off x="4494240" y="2317680"/>
          <a:ext cx="749160" cy="3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iek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4240" y="2317680"/>
                    <a:ext cx="7491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iekt 14"/>
          <p:cNvGraphicFramePr/>
          <p:nvPr/>
        </p:nvGraphicFramePr>
        <p:xfrm>
          <a:off x="4495680" y="2852640"/>
          <a:ext cx="716040" cy="6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Obiek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2852640"/>
                    <a:ext cx="71604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iekt 15"/>
          <p:cNvGraphicFramePr/>
          <p:nvPr/>
        </p:nvGraphicFramePr>
        <p:xfrm>
          <a:off x="4448160" y="3573360"/>
          <a:ext cx="825480" cy="46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Obiek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48160" y="3573360"/>
                    <a:ext cx="82548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Picture 3" descr=""/>
          <p:cNvPicPr/>
          <p:nvPr/>
        </p:nvPicPr>
        <p:blipFill>
          <a:blip r:embed="rId11"/>
          <a:stretch/>
        </p:blipFill>
        <p:spPr>
          <a:xfrm>
            <a:off x="4533840" y="4508640"/>
            <a:ext cx="627120" cy="34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Obiekt 16"/>
          <p:cNvGraphicFramePr/>
          <p:nvPr/>
        </p:nvGraphicFramePr>
        <p:xfrm>
          <a:off x="4500720" y="5516640"/>
          <a:ext cx="682560" cy="45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7" name="Obiek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00720" y="5516640"/>
                    <a:ext cx="6825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Picture 1" descr=""/>
          <p:cNvPicPr/>
          <p:nvPr/>
        </p:nvPicPr>
        <p:blipFill>
          <a:blip r:embed="rId14"/>
          <a:stretch/>
        </p:blipFill>
        <p:spPr>
          <a:xfrm>
            <a:off x="4572000" y="6437160"/>
            <a:ext cx="606600" cy="3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42B7-4B15-4D00-8C48-EC2F87099AB6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ymbol zastępczy zawartości 3"/>
          <p:cNvSpPr/>
          <p:nvPr/>
        </p:nvSpPr>
        <p:spPr>
          <a:xfrm>
            <a:off x="4208400" y="2744640"/>
            <a:ext cx="4935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 stanie początkowym SIG = 1 i łącznik jest zamknięty. Otwarcie następuje w czasie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= 4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ąd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pozostaje ciągły, więc o załączenie konkurują diody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oraz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mulacje wykonano dla GIFU = 0 oraz GIFU = 1 (sterowanie odbywa się z bloku MODEL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iekt 2"/>
          <p:cNvGraphicFramePr/>
          <p:nvPr/>
        </p:nvGraphicFramePr>
        <p:xfrm>
          <a:off x="576360" y="2673360"/>
          <a:ext cx="3632040" cy="34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i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673360"/>
                    <a:ext cx="363204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290C-C545-4548-8DD4-850DE2E947A0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ełączenie bez GIFU - prą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o zainicjowaniu przełączenia  następują kilkuetapowe przełączenia z pojawiającymi się impulsami prądowymi (dioda D2 przewodzi w odwrotnym kierunk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iekt 4"/>
          <p:cNvGraphicFramePr/>
          <p:nvPr/>
        </p:nvGraphicFramePr>
        <p:xfrm>
          <a:off x="577800" y="3610080"/>
          <a:ext cx="845352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i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3610080"/>
                    <a:ext cx="845352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8:22:15Z</dcterms:created>
  <dc:creator>Marian Sobierajski</dc:creator>
  <dc:description>Do wykorzystania przez dyplomatów jako wzór prezentacji na Seminarium Dyplomowym</dc:description>
  <cp:keywords>seminarium dyplomowe</cp:keywords>
  <dc:language>en-US</dc:language>
  <cp:lastModifiedBy>Eugeniusz Rosolowski</cp:lastModifiedBy>
  <dcterms:modified xsi:type="dcterms:W3CDTF">2016-01-06T23:11:24Z</dcterms:modified>
  <cp:revision>334</cp:revision>
  <dc:subject>Praca lub projekt dyplomowy</dc:subject>
  <dc:title>PrezentacjaSemDyplomowe</dc:title>
</cp:coreProperties>
</file>